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B86C-6F4B-457A-8ECA-252AA16B4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mmendation domain = extrapolation domain = (here) suitability m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16C7-708F-48FA-8F9B-89665F5CD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CFE8-9EAB-4490-B754-5AB62CAE2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C96D-A944-4F51-A70E-F7331192A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5D4E-A6D3-43A9-8387-D06ECBF7F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A2A6-EDDE-4539-871A-7504E9ED1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0FAA-D676-437B-B87A-FEC69A583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CDA0-D141-411B-9B0E-C8568061A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EDF4-6DA0-46D3-A6B2-DDFD417EA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C565-309A-433A-9051-CFEF7677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0F19-A20B-47F5-A322-15EB4FF9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01C-EA42-4C34-87E6-5EB59A6E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997-3060-4C17-A269-E14FF244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BCDB-2706-4CB0-A2BD-8EE5C74F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27F-FF8C-4373-B15E-7A4F255C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6AA-0BE4-426A-B290-6DD4C35C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F6A6-6000-4E00-801D-7EF613FF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E7C-E802-4F6D-8733-AE580789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136A-101B-4D69-8F9E-B4BCA3C4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6052-8159-4179-95B5-89FC4609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879A-13A9-4297-916B-54219F3F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B9D3-73C7-4D28-964F-B7F9DBE5B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D:/CPWF2/notes_etc/practices/2011.09.14-practice%20game.x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3 out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 for identification of best-be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and strategy specific “recommendation domain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water investment domains” indicating main constraints and opportunities and pointing to / comparing main investment 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mework: a step-wis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4400" y="1542600"/>
            <a:ext cx="8945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haracterisation of RWM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bine practices into landscape-level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pping recommendation doma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ulti-criteria Evaluation (partly qualit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’s affected (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option r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likely impacts and trade-offs (socio-economic and environmental impacts at different spatial and temporal sc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rero et al (in prep).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framework for targeting and scaling-out interventions in agricultural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421920"/>
            <a:ext cx="9144000" cy="995400"/>
          </a:xfrm>
          <a:prstGeom prst="rect">
            <a:avLst/>
          </a:prstGeom>
          <a:solidFill>
            <a:srgbClr val="d3572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2f2f2"/>
                </a:solidFill>
                <a:latin typeface="Arial"/>
              </a:rPr>
              <a:t>1. Characterisation of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literature review and expert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679760" y="291456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68000"/>
            <a:ext cx="9144000" cy="949320"/>
          </a:xfrm>
          <a:prstGeom prst="rect">
            <a:avLst/>
          </a:prstGeom>
          <a:solidFill>
            <a:srgbClr val="d3572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2f2f2"/>
                </a:solidFill>
                <a:latin typeface="Arial"/>
              </a:rPr>
              <a:t>2. Combination into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“game” with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6247342426_b98d051b5b"/>
          <p:cNvPicPr/>
          <p:nvPr/>
        </p:nvPicPr>
        <p:blipFill>
          <a:blip r:embed="rId1"/>
          <a:stretch/>
        </p:blipFill>
        <p:spPr>
          <a:xfrm>
            <a:off x="1916280" y="2455920"/>
            <a:ext cx="47624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7800"/>
            <a:ext cx="9144000" cy="1200240"/>
          </a:xfrm>
          <a:prstGeom prst="rect">
            <a:avLst/>
          </a:prstGeom>
          <a:solidFill>
            <a:srgbClr val="d3572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2f2f2"/>
                </a:solidFill>
                <a:latin typeface="Arial"/>
              </a:rPr>
              <a:t>3. Mapping recommendation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overlay to come up with “practice-specific recommendation domai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neation of “landscapes” (watersheds - polyg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practice suitability to the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/OR qu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y-specific recommendation doma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99600"/>
            <a:ext cx="9144000" cy="1017720"/>
          </a:xfrm>
          <a:prstGeom prst="rect">
            <a:avLst/>
          </a:prstGeom>
          <a:solidFill>
            <a:srgbClr val="d3572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2f2f2"/>
                </a:solidFill>
                <a:latin typeface="Arial"/>
              </a:rPr>
              <a:t>4.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, number of people, number of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option studies &amp;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vity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o-economic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impa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V eco-system services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de-o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03040"/>
            <a:ext cx="9144000" cy="1214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icultural Water Investment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406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ies and constraints vary in geographic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  need for and potential success of investment options depends on, a.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-physical characteristics (e.g. access and availability of water, water productivity, seasonality of scarcity, land degradation/ero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access (the access to input/output markets and information has a big influence on the adoption of new technolog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03040"/>
            <a:ext cx="9144000" cy="1214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icultural Water Investment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406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 Stratification of the Blue Nile Basin into areas with similar constraints and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ative advantage for certain agricultural water investmen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cut targeting of policies/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4:19:10Z</dcterms:created>
  <dc:creator>anotenbaert</dc:creator>
  <dc:description/>
  <dc:language>en-US</dc:language>
  <cp:lastModifiedBy>Notenbaert, An (ILRI)</cp:lastModifiedBy>
  <dcterms:modified xsi:type="dcterms:W3CDTF">2012-03-02T14:47:55Z</dcterms:modified>
  <cp:revision>188</cp:revision>
  <dc:subject/>
  <dc:title>Project 3</dc:title>
</cp:coreProperties>
</file>